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4F730D9-2537-4108-9F22-9C970BDF0966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535A7C-1713-4245-AC17-E3ECABB15B3D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D8C7057-AD09-4C08-9776-4312B66A4B3D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E46209-2130-4550-A74A-BB8431FA8090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7A1BD9-8FD4-4C7F-9C60-0D377105B616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ED911BB-0594-4177-99DA-0EC0D55576DC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E29BE4E-01A3-45DA-96E4-F3C751FF8D40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CCAA4AA-08D3-4864-B6AF-35466ED421DB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121116-1E81-4B6B-B897-6EC5C13B703D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19E2CCF-4996-47E0-A169-BE1ACF99B3DF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BB0219C-0658-41E0-ACF6-06CD27A4EA08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7635A1-6ABB-4374-A280-C813E57C1982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FB12573-E80C-4F05-A476-45F0DB472F2F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678BAD6-9556-499D-8FF6-37B19DC64AE2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8D1-0B3D-44C7-98E2-9F0C9431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2A3-B493-4FF2-A329-D41A8B88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FF5-E20D-435D-85A6-85DA2DB8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274-67E1-4D47-8E19-D0AC4EA1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5EC8-CC00-460A-9973-1622F074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1B17-8313-46A1-8BB2-0593AB16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CF35-C4D5-42EC-903D-D6870732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425E-65D3-490A-899D-765E95D0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5432-3F27-41C1-B376-97B45188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346A-E3CD-4B50-BCFD-51104950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25D0-D1CE-478A-B6AC-150042D8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C07-7289-4763-9305-B9BF232E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58FC-1A41-4E8F-9CEA-E883214A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23F6-4F38-4E76-A2F4-31EAD862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81E9-7647-4532-9848-F89D979F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D5BA-7C84-4694-92E8-D4FD2540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7884-DDE9-4A80-ACBE-9B8C5F22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F11-AF2C-4009-BB6F-DB6D6F22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B7C-0922-4C12-82F4-EA5BFA37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FC7-4CA9-4798-928D-06A47171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E2A-3041-492E-9DC6-39DE4D74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367-D051-4693-AD85-02FAEF73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560-28BD-4A20-8FFF-0F1866DE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5B1-FC90-41D2-8104-2BA68E1F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2700360" y="6244920"/>
            <a:ext cx="37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Montevideo, 17 y 18 de septiembre de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8172-A8E7-43D2-AF3D-B208A80A4F3E}" type="slidenum"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Montevideo, 17 y 18 de septiembre de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A1CD-932A-4739-A809-B591D8EC923F}" type="slidenum"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9"/>
          <p:cNvSpPr/>
          <p:nvPr/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ffffff"/>
                </a:solidFill>
                <a:latin typeface="Arial"/>
              </a:rPr>
              <a:t>Noviembre 2011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62AF-3BA6-4C79-9825-A2F4DB3E66C6}" type="slidenum">
              <a:rPr b="0" lang="es-A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0661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c0c0c0"/>
                </a:solidFill>
                <a:latin typeface="Arial"/>
              </a:rPr>
              <a:t>Beneficios del Buen Gobierno Corporativo</a:t>
            </a:r>
            <a:br>
              <a:rPr sz="3600"/>
            </a:b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468360" y="4068720"/>
            <a:ext cx="80661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68360" y="3348000"/>
            <a:ext cx="80661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9"/>
          <p:cNvSpPr/>
          <p:nvPr/>
        </p:nvSpPr>
        <p:spPr>
          <a:xfrm>
            <a:off x="108000" y="624060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B2C0-6AA4-4CD4-BCF9-EC57BD1EB35B}" type="slidenum">
              <a:rPr b="0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80"/>
          <p:cNvGrpSpPr/>
          <p:nvPr/>
        </p:nvGrpSpPr>
        <p:grpSpPr>
          <a:xfrm>
            <a:off x="1714680" y="1022400"/>
            <a:ext cx="5716440" cy="5286600"/>
            <a:chOff x="1714680" y="1022400"/>
            <a:chExt cx="5716440" cy="5286600"/>
          </a:xfrm>
        </p:grpSpPr>
        <p:sp>
          <p:nvSpPr>
            <p:cNvPr id="339" name="Straight Connector 142"/>
            <p:cNvSpPr/>
            <p:nvPr/>
          </p:nvSpPr>
          <p:spPr>
            <a:xfrm flipV="1">
              <a:off x="4572000" y="3676680"/>
              <a:ext cx="857160" cy="426960"/>
            </a:xfrm>
            <a:prstGeom prst="line">
              <a:avLst/>
            </a:prstGeom>
            <a:ln w="9360">
              <a:solidFill>
                <a:srgbClr val="ffff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93"/>
            <p:cNvSpPr/>
            <p:nvPr/>
          </p:nvSpPr>
          <p:spPr>
            <a:xfrm>
              <a:off x="3643560" y="1287360"/>
              <a:ext cx="1857240" cy="2840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94"/>
            <p:cNvSpPr/>
            <p:nvPr/>
          </p:nvSpPr>
          <p:spPr>
            <a:xfrm>
              <a:off x="1714680" y="1287360"/>
              <a:ext cx="1857240" cy="2840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2214720" y="4589640"/>
              <a:ext cx="4786200" cy="2840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2214720" y="4902120"/>
              <a:ext cx="4786200" cy="2840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2214720" y="5213520"/>
              <a:ext cx="4786200" cy="2840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Block Arc 12"/>
            <p:cNvSpPr/>
            <p:nvPr/>
          </p:nvSpPr>
          <p:spPr>
            <a:xfrm>
              <a:off x="2214720" y="2593800"/>
              <a:ext cx="4786200" cy="3058920"/>
            </a:xfrm>
            <a:custGeom>
              <a:avLst/>
              <a:gdLst>
                <a:gd name="textAreaLeft" fmla="*/ 0 w 4786200"/>
                <a:gd name="textAreaRight" fmla="*/ 4786560 w 4786200"/>
                <a:gd name="textAreaTop" fmla="*/ 0 h 3058920"/>
                <a:gd name="textAreaBottom" fmla="*/ 1529640 h 3058920"/>
              </a:gdLst>
              <a:ahLst/>
              <a:rect l="textAreaLeft" t="textAreaTop" r="textAreaRight" b="textAreaBottom"/>
              <a:pathLst>
                <a:path w="4786312" h="3059113">
                  <a:moveTo>
                    <a:pt x="0" y="1529554"/>
                  </a:moveTo>
                  <a:lnTo>
                    <a:pt x="0" y="1529554"/>
                  </a:lnTo>
                  <a:arcTo wR="2393156" hR="1529557" stAng="-10799996" swAng="10800003"/>
                  <a:lnTo>
                    <a:pt x="4021534" y="1529557"/>
                  </a:lnTo>
                  <a:lnTo>
                    <a:pt x="4021534" y="1529557"/>
                  </a:lnTo>
                  <a:arcTo wR="1628378" hR="764778" stAng="0" swAng="-10800004"/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Block Arc 13"/>
            <p:cNvSpPr/>
            <p:nvPr/>
          </p:nvSpPr>
          <p:spPr>
            <a:xfrm>
              <a:off x="2928960" y="2949480"/>
              <a:ext cx="3357360" cy="232092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2320920"/>
                <a:gd name="textAreaBottom" fmla="*/ 1173240 h 2320920"/>
              </a:gdLst>
              <a:ahLst/>
              <a:rect l="textAreaLeft" t="textAreaTop" r="textAreaRight" b="textAreaBottom"/>
              <a:pathLst>
                <a:path w="3357562" h="2320925">
                  <a:moveTo>
                    <a:pt x="100" y="1173149"/>
                  </a:moveTo>
                  <a:lnTo>
                    <a:pt x="100" y="1173149"/>
                  </a:lnTo>
                  <a:arcTo wR="1678781" hR="1160463" stAng="10774021" swAng="10825985"/>
                  <a:lnTo>
                    <a:pt x="2777331" y="1160463"/>
                  </a:lnTo>
                  <a:lnTo>
                    <a:pt x="2777331" y="1160463"/>
                  </a:lnTo>
                  <a:arcTo wR="1098550" hR="580231" stAng="0" swAng="-10825988"/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8"/>
            <p:cNvSpPr/>
            <p:nvPr/>
          </p:nvSpPr>
          <p:spPr>
            <a:xfrm>
              <a:off x="2214720" y="4275000"/>
              <a:ext cx="4786200" cy="2840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Up-Down Arrow 18"/>
            <p:cNvSpPr/>
            <p:nvPr/>
          </p:nvSpPr>
          <p:spPr>
            <a:xfrm>
              <a:off x="2643120" y="5513400"/>
              <a:ext cx="285480" cy="355320"/>
            </a:xfrm>
            <a:prstGeom prst="upDownArrow">
              <a:avLst>
                <a:gd name="adj1" fmla="val 50000"/>
                <a:gd name="adj2" fmla="val 5001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Up-Down Arrow 19"/>
            <p:cNvSpPr/>
            <p:nvPr/>
          </p:nvSpPr>
          <p:spPr>
            <a:xfrm>
              <a:off x="3857760" y="5513400"/>
              <a:ext cx="285480" cy="355320"/>
            </a:xfrm>
            <a:prstGeom prst="upDownArrow">
              <a:avLst>
                <a:gd name="adj1" fmla="val 50000"/>
                <a:gd name="adj2" fmla="val 5001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Up-Down Arrow 20"/>
            <p:cNvSpPr/>
            <p:nvPr/>
          </p:nvSpPr>
          <p:spPr>
            <a:xfrm>
              <a:off x="5072040" y="5513400"/>
              <a:ext cx="285480" cy="355320"/>
            </a:xfrm>
            <a:prstGeom prst="upDownArrow">
              <a:avLst>
                <a:gd name="adj1" fmla="val 50000"/>
                <a:gd name="adj2" fmla="val 5001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Up-Down Arrow 21"/>
            <p:cNvSpPr/>
            <p:nvPr/>
          </p:nvSpPr>
          <p:spPr>
            <a:xfrm>
              <a:off x="6286680" y="5513400"/>
              <a:ext cx="285480" cy="355320"/>
            </a:xfrm>
            <a:prstGeom prst="upDownArrow">
              <a:avLst>
                <a:gd name="adj1" fmla="val 50000"/>
                <a:gd name="adj2" fmla="val 5001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2" name="Group 29"/>
            <p:cNvGrpSpPr/>
            <p:nvPr/>
          </p:nvGrpSpPr>
          <p:grpSpPr>
            <a:xfrm>
              <a:off x="1714680" y="1074600"/>
              <a:ext cx="5715000" cy="496800"/>
              <a:chOff x="1714680" y="1074600"/>
              <a:chExt cx="5715000" cy="496800"/>
            </a:xfrm>
          </p:grpSpPr>
          <p:sp>
            <p:nvSpPr>
              <p:cNvPr id="353" name="Rectangle 23"/>
              <p:cNvSpPr/>
              <p:nvPr/>
            </p:nvSpPr>
            <p:spPr>
              <a:xfrm>
                <a:off x="1714680" y="1074600"/>
                <a:ext cx="5715000" cy="21276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28"/>
              <p:cNvSpPr/>
              <p:nvPr/>
            </p:nvSpPr>
            <p:spPr>
              <a:xfrm>
                <a:off x="5572440" y="1287360"/>
                <a:ext cx="1857240" cy="28404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5" name="Rectangle 31"/>
            <p:cNvSpPr/>
            <p:nvPr/>
          </p:nvSpPr>
          <p:spPr>
            <a:xfrm>
              <a:off x="1714680" y="1684080"/>
              <a:ext cx="5715000" cy="21240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32"/>
            <p:cNvSpPr/>
            <p:nvPr/>
          </p:nvSpPr>
          <p:spPr>
            <a:xfrm>
              <a:off x="1714680" y="1896840"/>
              <a:ext cx="1357200" cy="2840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33"/>
            <p:cNvSpPr/>
            <p:nvPr/>
          </p:nvSpPr>
          <p:spPr>
            <a:xfrm>
              <a:off x="3144960" y="1896840"/>
              <a:ext cx="1357200" cy="2840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34"/>
            <p:cNvSpPr/>
            <p:nvPr/>
          </p:nvSpPr>
          <p:spPr>
            <a:xfrm>
              <a:off x="4603680" y="1896840"/>
              <a:ext cx="1369800" cy="2840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35"/>
            <p:cNvSpPr/>
            <p:nvPr/>
          </p:nvSpPr>
          <p:spPr>
            <a:xfrm>
              <a:off x="6072480" y="1896840"/>
              <a:ext cx="1357200" cy="2840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Up-Down Arrow 36"/>
            <p:cNvSpPr/>
            <p:nvPr/>
          </p:nvSpPr>
          <p:spPr>
            <a:xfrm>
              <a:off x="2214720" y="2211480"/>
              <a:ext cx="285480" cy="355320"/>
            </a:xfrm>
            <a:prstGeom prst="upDownArrow">
              <a:avLst>
                <a:gd name="adj1" fmla="val 50000"/>
                <a:gd name="adj2" fmla="val 5001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Up-Down Arrow 37"/>
            <p:cNvSpPr/>
            <p:nvPr/>
          </p:nvSpPr>
          <p:spPr>
            <a:xfrm>
              <a:off x="3684600" y="2211480"/>
              <a:ext cx="285480" cy="355320"/>
            </a:xfrm>
            <a:prstGeom prst="upDownArrow">
              <a:avLst>
                <a:gd name="adj1" fmla="val 50000"/>
                <a:gd name="adj2" fmla="val 5001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Up-Down Arrow 38"/>
            <p:cNvSpPr/>
            <p:nvPr/>
          </p:nvSpPr>
          <p:spPr>
            <a:xfrm>
              <a:off x="5143680" y="2211480"/>
              <a:ext cx="285480" cy="355320"/>
            </a:xfrm>
            <a:prstGeom prst="upDownArrow">
              <a:avLst>
                <a:gd name="adj1" fmla="val 50000"/>
                <a:gd name="adj2" fmla="val 5001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Up-Down Arrow 39"/>
            <p:cNvSpPr/>
            <p:nvPr/>
          </p:nvSpPr>
          <p:spPr>
            <a:xfrm>
              <a:off x="6643800" y="2211480"/>
              <a:ext cx="285480" cy="355320"/>
            </a:xfrm>
            <a:prstGeom prst="upDownArrow">
              <a:avLst>
                <a:gd name="adj1" fmla="val 50000"/>
                <a:gd name="adj2" fmla="val 5001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Block Arc 40"/>
            <p:cNvSpPr/>
            <p:nvPr/>
          </p:nvSpPr>
          <p:spPr>
            <a:xfrm>
              <a:off x="3714840" y="3603600"/>
              <a:ext cx="1785960" cy="925200"/>
            </a:xfrm>
            <a:custGeom>
              <a:avLst/>
              <a:gdLst>
                <a:gd name="textAreaLeft" fmla="*/ 0 w 1785960"/>
                <a:gd name="textAreaRight" fmla="*/ 1786320 w 1785960"/>
                <a:gd name="textAreaTop" fmla="*/ 0 h 925200"/>
                <a:gd name="textAreaBottom" fmla="*/ 462600 h 925200"/>
              </a:gdLst>
              <a:ahLst/>
              <a:rect l="textAreaLeft" t="textAreaTop" r="textAreaRight" b="textAreaBottom"/>
              <a:pathLst>
                <a:path w="1785938" h="925513">
                  <a:moveTo>
                    <a:pt x="0" y="462755"/>
                  </a:moveTo>
                  <a:lnTo>
                    <a:pt x="0" y="462755"/>
                  </a:lnTo>
                  <a:arcTo wR="892969" hR="462757" stAng="-10799996" swAng="10800004"/>
                  <a:lnTo>
                    <a:pt x="1554560" y="462757"/>
                  </a:lnTo>
                  <a:lnTo>
                    <a:pt x="1554560" y="462757"/>
                  </a:lnTo>
                  <a:arcTo wR="661591" hR="231378" stAng="0" swAng="-1080000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Down Arrow 41"/>
            <p:cNvSpPr/>
            <p:nvPr/>
          </p:nvSpPr>
          <p:spPr>
            <a:xfrm>
              <a:off x="3602160" y="4048200"/>
              <a:ext cx="457200" cy="155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Down Arrow 42"/>
            <p:cNvSpPr/>
            <p:nvPr/>
          </p:nvSpPr>
          <p:spPr>
            <a:xfrm>
              <a:off x="5158080" y="4060800"/>
              <a:ext cx="458640" cy="155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Straight Connector 44"/>
            <p:cNvSpPr/>
            <p:nvPr/>
          </p:nvSpPr>
          <p:spPr>
            <a:xfrm flipH="1" flipV="1">
              <a:off x="2571840" y="3349080"/>
              <a:ext cx="1000080" cy="56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Straight Connector 46"/>
            <p:cNvSpPr/>
            <p:nvPr/>
          </p:nvSpPr>
          <p:spPr>
            <a:xfrm flipH="1" flipV="1">
              <a:off x="3214800" y="2895480"/>
              <a:ext cx="642960" cy="782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Straight Connector 48"/>
            <p:cNvSpPr/>
            <p:nvPr/>
          </p:nvSpPr>
          <p:spPr>
            <a:xfrm flipH="1" flipV="1">
              <a:off x="4000320" y="2638440"/>
              <a:ext cx="285480" cy="92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Straight Connector 54"/>
            <p:cNvSpPr/>
            <p:nvPr/>
          </p:nvSpPr>
          <p:spPr>
            <a:xfrm flipV="1">
              <a:off x="4714200" y="2611440"/>
              <a:ext cx="214200" cy="92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Straight Connector 61"/>
            <p:cNvSpPr/>
            <p:nvPr/>
          </p:nvSpPr>
          <p:spPr>
            <a:xfrm flipV="1">
              <a:off x="5142960" y="2750760"/>
              <a:ext cx="571320" cy="88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Straight Connector 65"/>
            <p:cNvSpPr/>
            <p:nvPr/>
          </p:nvSpPr>
          <p:spPr>
            <a:xfrm flipV="1">
              <a:off x="5473800" y="3136320"/>
              <a:ext cx="955440" cy="62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Straight Connector 73"/>
            <p:cNvSpPr/>
            <p:nvPr/>
          </p:nvSpPr>
          <p:spPr>
            <a:xfrm flipV="1">
              <a:off x="5500800" y="3136320"/>
              <a:ext cx="928440" cy="639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Straight Connector 81"/>
            <p:cNvSpPr/>
            <p:nvPr/>
          </p:nvSpPr>
          <p:spPr>
            <a:xfrm flipV="1">
              <a:off x="5513400" y="3136320"/>
              <a:ext cx="928440" cy="63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Straight Connector 83"/>
            <p:cNvSpPr/>
            <p:nvPr/>
          </p:nvSpPr>
          <p:spPr>
            <a:xfrm flipH="1">
              <a:off x="5500440" y="3135960"/>
              <a:ext cx="928440" cy="63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Box 88"/>
            <p:cNvSpPr/>
            <p:nvPr/>
          </p:nvSpPr>
          <p:spPr>
            <a:xfrm>
              <a:off x="3214800" y="1022400"/>
              <a:ext cx="278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Directorio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Box 89"/>
            <p:cNvSpPr/>
            <p:nvPr/>
          </p:nvSpPr>
          <p:spPr>
            <a:xfrm>
              <a:off x="3214800" y="1650960"/>
              <a:ext cx="278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Gerencias Ejecutiva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TextBox 90"/>
            <p:cNvSpPr/>
            <p:nvPr/>
          </p:nvSpPr>
          <p:spPr>
            <a:xfrm>
              <a:off x="1760400" y="1288800"/>
              <a:ext cx="175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254a"/>
                  </a:solidFill>
                  <a:latin typeface="Arial"/>
                </a:rPr>
                <a:t>Comité de Auditorí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Box 91"/>
            <p:cNvSpPr/>
            <p:nvPr/>
          </p:nvSpPr>
          <p:spPr>
            <a:xfrm>
              <a:off x="3643560" y="1303200"/>
              <a:ext cx="189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254a"/>
                  </a:solidFill>
                  <a:latin typeface="Arial"/>
                </a:rPr>
                <a:t>Comités de Riego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Box 92"/>
            <p:cNvSpPr/>
            <p:nvPr/>
          </p:nvSpPr>
          <p:spPr>
            <a:xfrm>
              <a:off x="5562720" y="1312920"/>
              <a:ext cx="186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254a"/>
                  </a:solidFill>
                  <a:latin typeface="Arial"/>
                </a:rPr>
                <a:t>Otros Comité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Box 96"/>
            <p:cNvSpPr/>
            <p:nvPr/>
          </p:nvSpPr>
          <p:spPr>
            <a:xfrm>
              <a:off x="1714680" y="1906560"/>
              <a:ext cx="13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254a"/>
                  </a:solidFill>
                  <a:latin typeface="Arial"/>
                </a:rPr>
                <a:t>CEO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Box 97"/>
            <p:cNvSpPr/>
            <p:nvPr/>
          </p:nvSpPr>
          <p:spPr>
            <a:xfrm>
              <a:off x="3135240" y="1900080"/>
              <a:ext cx="13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254a"/>
                  </a:solidFill>
                  <a:latin typeface="Arial"/>
                </a:rPr>
                <a:t>CFO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Box 98"/>
            <p:cNvSpPr/>
            <p:nvPr/>
          </p:nvSpPr>
          <p:spPr>
            <a:xfrm>
              <a:off x="4614840" y="1892160"/>
              <a:ext cx="13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254a"/>
                  </a:solidFill>
                  <a:latin typeface="Arial"/>
                </a:rPr>
                <a:t>CRO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Box 99"/>
            <p:cNvSpPr/>
            <p:nvPr/>
          </p:nvSpPr>
          <p:spPr>
            <a:xfrm>
              <a:off x="6066000" y="1909800"/>
              <a:ext cx="13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254a"/>
                  </a:solidFill>
                  <a:latin typeface="Arial"/>
                </a:rPr>
                <a:t>Gerencia Gral.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Box 100"/>
            <p:cNvSpPr/>
            <p:nvPr/>
          </p:nvSpPr>
          <p:spPr>
            <a:xfrm>
              <a:off x="2428920" y="4281480"/>
              <a:ext cx="428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254a"/>
                  </a:solidFill>
                  <a:latin typeface="Arial"/>
                </a:rPr>
                <a:t>Coordinación entre estrategia y control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Box 101"/>
            <p:cNvSpPr/>
            <p:nvPr/>
          </p:nvSpPr>
          <p:spPr>
            <a:xfrm>
              <a:off x="2428920" y="4597560"/>
              <a:ext cx="428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254a"/>
                  </a:solidFill>
                  <a:latin typeface="Arial"/>
                </a:rPr>
                <a:t>Estructura adecuad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Box 102"/>
            <p:cNvSpPr/>
            <p:nvPr/>
          </p:nvSpPr>
          <p:spPr>
            <a:xfrm>
              <a:off x="2428920" y="4908600"/>
              <a:ext cx="428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254a"/>
                  </a:solidFill>
                  <a:latin typeface="Arial"/>
                </a:rPr>
                <a:t>Metodología y procesos consistente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Box 103"/>
            <p:cNvSpPr/>
            <p:nvPr/>
          </p:nvSpPr>
          <p:spPr>
            <a:xfrm>
              <a:off x="2428920" y="5207040"/>
              <a:ext cx="428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254a"/>
                  </a:solidFill>
                  <a:latin typeface="Arial"/>
                </a:rPr>
                <a:t>Bases comunes de información y tecnología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107"/>
            <p:cNvGrpSpPr/>
            <p:nvPr/>
          </p:nvGrpSpPr>
          <p:grpSpPr>
            <a:xfrm>
              <a:off x="2214720" y="5910480"/>
              <a:ext cx="1071360" cy="398520"/>
              <a:chOff x="2214720" y="5910480"/>
              <a:chExt cx="1071360" cy="398520"/>
            </a:xfrm>
          </p:grpSpPr>
          <p:sp>
            <p:nvSpPr>
              <p:cNvPr id="390" name="Rectangle 14"/>
              <p:cNvSpPr/>
              <p:nvPr/>
            </p:nvSpPr>
            <p:spPr>
              <a:xfrm>
                <a:off x="2214720" y="5910480"/>
                <a:ext cx="1071360" cy="35532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Box 106"/>
              <p:cNvSpPr/>
              <p:nvPr/>
            </p:nvSpPr>
            <p:spPr>
              <a:xfrm>
                <a:off x="2214720" y="5910480"/>
                <a:ext cx="1071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>
                    <a:solidFill>
                      <a:srgbClr val="00254a"/>
                    </a:solidFill>
                    <a:latin typeface="Arial"/>
                  </a:rPr>
                  <a:t>Unidad de negocio</a:t>
                </a:r>
                <a:endParaRPr b="1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09"/>
            <p:cNvGrpSpPr/>
            <p:nvPr/>
          </p:nvGrpSpPr>
          <p:grpSpPr>
            <a:xfrm>
              <a:off x="3459240" y="5910480"/>
              <a:ext cx="1071360" cy="398520"/>
              <a:chOff x="3459240" y="5910480"/>
              <a:chExt cx="1071360" cy="398520"/>
            </a:xfrm>
          </p:grpSpPr>
          <p:sp>
            <p:nvSpPr>
              <p:cNvPr id="393" name="Rectangle 110"/>
              <p:cNvSpPr/>
              <p:nvPr/>
            </p:nvSpPr>
            <p:spPr>
              <a:xfrm>
                <a:off x="3459240" y="5910480"/>
                <a:ext cx="1071360" cy="35532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Box 111"/>
              <p:cNvSpPr/>
              <p:nvPr/>
            </p:nvSpPr>
            <p:spPr>
              <a:xfrm>
                <a:off x="3459240" y="5910480"/>
                <a:ext cx="1071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>
                    <a:solidFill>
                      <a:srgbClr val="00254a"/>
                    </a:solidFill>
                    <a:latin typeface="Arial"/>
                  </a:rPr>
                  <a:t>Unidad de negocio</a:t>
                </a:r>
                <a:endParaRPr b="1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12"/>
            <p:cNvGrpSpPr/>
            <p:nvPr/>
          </p:nvGrpSpPr>
          <p:grpSpPr>
            <a:xfrm>
              <a:off x="4687920" y="5910480"/>
              <a:ext cx="1071360" cy="398520"/>
              <a:chOff x="4687920" y="5910480"/>
              <a:chExt cx="1071360" cy="398520"/>
            </a:xfrm>
          </p:grpSpPr>
          <p:sp>
            <p:nvSpPr>
              <p:cNvPr id="396" name="Rectangle 113"/>
              <p:cNvSpPr/>
              <p:nvPr/>
            </p:nvSpPr>
            <p:spPr>
              <a:xfrm>
                <a:off x="4687920" y="5910480"/>
                <a:ext cx="1071360" cy="35532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Box 114"/>
              <p:cNvSpPr/>
              <p:nvPr/>
            </p:nvSpPr>
            <p:spPr>
              <a:xfrm>
                <a:off x="4687920" y="5910480"/>
                <a:ext cx="1071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>
                    <a:solidFill>
                      <a:srgbClr val="00254a"/>
                    </a:solidFill>
                    <a:latin typeface="Arial"/>
                  </a:rPr>
                  <a:t>Unidad de negocio</a:t>
                </a:r>
                <a:endParaRPr b="1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15"/>
            <p:cNvGrpSpPr/>
            <p:nvPr/>
          </p:nvGrpSpPr>
          <p:grpSpPr>
            <a:xfrm>
              <a:off x="5910480" y="5910480"/>
              <a:ext cx="1071360" cy="398520"/>
              <a:chOff x="5910480" y="5910480"/>
              <a:chExt cx="1071360" cy="398520"/>
            </a:xfrm>
          </p:grpSpPr>
          <p:sp>
            <p:nvSpPr>
              <p:cNvPr id="399" name="Rectangle 116"/>
              <p:cNvSpPr/>
              <p:nvPr/>
            </p:nvSpPr>
            <p:spPr>
              <a:xfrm>
                <a:off x="5910480" y="5910480"/>
                <a:ext cx="1071360" cy="35532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TextBox 117"/>
              <p:cNvSpPr/>
              <p:nvPr/>
            </p:nvSpPr>
            <p:spPr>
              <a:xfrm>
                <a:off x="5910480" y="5910480"/>
                <a:ext cx="1071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000" spc="-1" strike="noStrike">
                    <a:solidFill>
                      <a:srgbClr val="00254a"/>
                    </a:solidFill>
                    <a:latin typeface="Arial"/>
                  </a:rPr>
                  <a:t>Unidad de negocio</a:t>
                </a:r>
                <a:endParaRPr b="1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TextBox 118"/>
            <p:cNvSpPr/>
            <p:nvPr/>
          </p:nvSpPr>
          <p:spPr>
            <a:xfrm>
              <a:off x="2214720" y="3732120"/>
              <a:ext cx="1357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254a"/>
                  </a:solidFill>
                  <a:latin typeface="Arial"/>
                </a:rPr>
                <a:t>Auditoría 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254a"/>
                  </a:solidFill>
                  <a:latin typeface="Arial"/>
                </a:rPr>
                <a:t>Interna 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Box 119"/>
            <p:cNvSpPr/>
            <p:nvPr/>
          </p:nvSpPr>
          <p:spPr>
            <a:xfrm rot="2089800">
              <a:off x="2560680" y="3282480"/>
              <a:ext cx="1357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254a"/>
                  </a:solidFill>
                  <a:latin typeface="Arial"/>
                </a:rPr>
                <a:t>Administración 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254a"/>
                  </a:solidFill>
                  <a:latin typeface="Arial"/>
                </a:rPr>
                <a:t>del riesg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Box 120"/>
            <p:cNvSpPr/>
            <p:nvPr/>
          </p:nvSpPr>
          <p:spPr>
            <a:xfrm rot="3456600">
              <a:off x="3169800" y="3051000"/>
              <a:ext cx="135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254a"/>
                  </a:solidFill>
                  <a:latin typeface="Arial"/>
                </a:rPr>
                <a:t>Compliance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Box 121"/>
            <p:cNvSpPr/>
            <p:nvPr/>
          </p:nvSpPr>
          <p:spPr>
            <a:xfrm rot="16401000">
              <a:off x="4016520" y="2882160"/>
              <a:ext cx="1011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254a"/>
                  </a:solidFill>
                  <a:latin typeface="Arial"/>
                </a:rPr>
                <a:t>Control 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254a"/>
                  </a:solidFill>
                  <a:latin typeface="Arial"/>
                </a:rPr>
                <a:t>Intern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Box 122"/>
            <p:cNvSpPr/>
            <p:nvPr/>
          </p:nvSpPr>
          <p:spPr>
            <a:xfrm rot="17557800">
              <a:off x="4533120" y="2908080"/>
              <a:ext cx="1174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254a"/>
                  </a:solidFill>
                  <a:latin typeface="Arial"/>
                </a:rPr>
                <a:t>Tecnología de 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254a"/>
                  </a:solidFill>
                  <a:latin typeface="Arial"/>
                </a:rPr>
                <a:t>la información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Box 123"/>
            <p:cNvSpPr/>
            <p:nvPr/>
          </p:nvSpPr>
          <p:spPr>
            <a:xfrm rot="19227600">
              <a:off x="5145120" y="3068280"/>
              <a:ext cx="117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254a"/>
                  </a:solidFill>
                  <a:latin typeface="Arial"/>
                </a:rPr>
                <a:t>Legal y regulatorio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Box 124"/>
            <p:cNvSpPr/>
            <p:nvPr/>
          </p:nvSpPr>
          <p:spPr>
            <a:xfrm>
              <a:off x="5770800" y="3662280"/>
              <a:ext cx="1015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254a"/>
                  </a:solidFill>
                  <a:latin typeface="Arial"/>
                </a:rPr>
                <a:t>Auditoría externa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Straight Connector 87"/>
            <p:cNvSpPr/>
            <p:nvPr/>
          </p:nvSpPr>
          <p:spPr>
            <a:xfrm flipV="1">
              <a:off x="5715000" y="4103280"/>
              <a:ext cx="1285920" cy="4428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Straight Connector 130"/>
            <p:cNvSpPr/>
            <p:nvPr/>
          </p:nvSpPr>
          <p:spPr>
            <a:xfrm flipV="1">
              <a:off x="2214720" y="4103280"/>
              <a:ext cx="1315800" cy="284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Straight Connector 132"/>
            <p:cNvSpPr/>
            <p:nvPr/>
          </p:nvSpPr>
          <p:spPr>
            <a:xfrm>
              <a:off x="3571920" y="4103640"/>
              <a:ext cx="2143080" cy="44280"/>
            </a:xfrm>
            <a:prstGeom prst="line">
              <a:avLst/>
            </a:prstGeom>
            <a:ln w="9360">
              <a:solidFill>
                <a:srgbClr val="ffff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Straight Connector 136"/>
            <p:cNvSpPr/>
            <p:nvPr/>
          </p:nvSpPr>
          <p:spPr>
            <a:xfrm flipV="1">
              <a:off x="4570560" y="3534840"/>
              <a:ext cx="2880" cy="569880"/>
            </a:xfrm>
            <a:prstGeom prst="line">
              <a:avLst/>
            </a:prstGeom>
            <a:ln w="9360">
              <a:solidFill>
                <a:srgbClr val="ffff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Straight Connector 140"/>
            <p:cNvSpPr/>
            <p:nvPr/>
          </p:nvSpPr>
          <p:spPr>
            <a:xfrm flipH="1" flipV="1">
              <a:off x="3643200" y="3819240"/>
              <a:ext cx="928440" cy="284040"/>
            </a:xfrm>
            <a:prstGeom prst="line">
              <a:avLst/>
            </a:prstGeom>
            <a:ln w="9360">
              <a:solidFill>
                <a:srgbClr val="ffff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Straight Connector 144"/>
            <p:cNvSpPr/>
            <p:nvPr/>
          </p:nvSpPr>
          <p:spPr>
            <a:xfrm flipH="1" flipV="1">
              <a:off x="4071600" y="3605040"/>
              <a:ext cx="500040" cy="498240"/>
            </a:xfrm>
            <a:prstGeom prst="line">
              <a:avLst/>
            </a:prstGeom>
            <a:ln w="9360">
              <a:solidFill>
                <a:srgbClr val="ffff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Straight Connector 146"/>
            <p:cNvSpPr/>
            <p:nvPr/>
          </p:nvSpPr>
          <p:spPr>
            <a:xfrm flipV="1">
              <a:off x="4571280" y="3605040"/>
              <a:ext cx="500040" cy="498240"/>
            </a:xfrm>
            <a:prstGeom prst="line">
              <a:avLst/>
            </a:prstGeom>
            <a:ln w="9360">
              <a:solidFill>
                <a:srgbClr val="ffff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Rectangle 69"/>
          <p:cNvSpPr/>
          <p:nvPr/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ffffff"/>
                </a:solidFill>
                <a:latin typeface="Arial"/>
              </a:rPr>
              <a:t>Noviembre 2011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-181080" y="-100080"/>
            <a:ext cx="9325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Marco integral de control en una Organizac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7724-C5C6-4859-9949-56F933713026}" type="slidenum">
              <a:rPr b="0" lang="es-A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395280" y="1197000"/>
            <a:ext cx="828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1042920" y="115920"/>
            <a:ext cx="65534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69"/>
          <p:cNvSpPr/>
          <p:nvPr/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ffffff"/>
                </a:solidFill>
                <a:latin typeface="Arial"/>
              </a:rPr>
              <a:t>Noviembre 2011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69"/>
          <p:cNvSpPr/>
          <p:nvPr/>
        </p:nvSpPr>
        <p:spPr>
          <a:xfrm>
            <a:off x="108000" y="624060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539640" y="4076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395280" y="1341360"/>
            <a:ext cx="82296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spectos Generales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Respuestas al Cumplimiento parcial o total: evaluar 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ódigo de conducta empresaria: podría publicarse en la Web Corporativa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Aclarar con que grado de alcance se considera cumplida una respuesta                              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(es sólo con 100%?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spectos Particulares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to. II.1.1: aclarar alcance  “…de contar con políticas … hacer u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escripción de las misma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to. II.3.1: aclarar si se requiere declaración individual (cada integrante 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irectori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to. II.6: límite a los integrantes del Órgano de Administración. Si no s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nsidera necesario establecerlo implica  necesidad de aclarar o no 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umplimien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32400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-828720" y="128520"/>
            <a:ext cx="9325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Comentarios sobre el Proyecto de CN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9CC5-F0C0-40A0-98AA-2E090B43EAF4}" type="slidenum">
              <a:rPr b="0" lang="es-A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395280" y="1197000"/>
            <a:ext cx="828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9"/>
          <p:cNvSpPr/>
          <p:nvPr/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ffffff"/>
                </a:solidFill>
                <a:latin typeface="Arial"/>
              </a:rPr>
              <a:t>Noviembre 2011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69"/>
          <p:cNvSpPr/>
          <p:nvPr/>
        </p:nvSpPr>
        <p:spPr>
          <a:xfrm>
            <a:off x="108000" y="624060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95280" y="1413000"/>
            <a:ext cx="820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539640" y="4076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395280" y="1341360"/>
            <a:ext cx="82296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spectos Particulares- (continuac.)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to. III.2: ante la existencia de un Comité de Riegos correspondería inform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sobre la existencia de un reglamento de funcionamiento  y no de manual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e procedimien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to. III.3: ante la existencia de un Oficial de Gestión de Riesgos, deberí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solicitarse “independencia” de la función y no referirse a “grado d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ndependencia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to. IV.2: debería corregirse indicando que la función de Auditoría Interna 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responsable de </a:t>
            </a:r>
            <a:r>
              <a:rPr b="0" lang="es-AR" sz="1800" spc="-1" strike="noStrike" u="sng">
                <a:solidFill>
                  <a:srgbClr val="ffffff"/>
                </a:solidFill>
                <a:uFillTx/>
                <a:latin typeface="Arial"/>
              </a:rPr>
              <a:t>la evaluación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el control interno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to. VII.2: sería recomendable establecer que el “sistema de cálculo d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ncentivos económicos al personal” se encuentre alineado con criteri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razonables o prudentes, y contemple la definición del nivel de aceptación 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riesgos definido para la Emisor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2400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-828720" y="128520"/>
            <a:ext cx="9325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Comentarios sobre el Proyecto de CN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1E28-CBB0-42E8-A624-7D20F8E10E85}" type="slidenum">
              <a:rPr b="0" lang="es-A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WordArt 4" descr=""/>
          <p:cNvPicPr/>
          <p:nvPr/>
        </p:nvPicPr>
        <p:blipFill>
          <a:blip r:embed="rId1"/>
          <a:stretch/>
        </p:blipFill>
        <p:spPr>
          <a:xfrm>
            <a:off x="1712880" y="2852640"/>
            <a:ext cx="5589720" cy="109692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9"/>
          <p:cNvSpPr/>
          <p:nvPr/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ffffff"/>
                </a:solidFill>
                <a:latin typeface="Arial"/>
              </a:rPr>
              <a:t>Noviembre 2011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9"/>
          <p:cNvSpPr/>
          <p:nvPr/>
        </p:nvSpPr>
        <p:spPr>
          <a:xfrm>
            <a:off x="108000" y="624060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104F-6E59-410B-82E9-BA85C776B6D1}" type="slidenum">
              <a:rPr b="0" lang="es-A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ntroducción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440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rincipios y Beneficios asociad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14400" algn="just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ódigo de Gobierno Corporativ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14400" algn="just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arco integral de control en una Organizació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14400" algn="just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mentarios sobre el Proyecto de CNV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1042920" y="115920"/>
            <a:ext cx="65534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69"/>
          <p:cNvSpPr/>
          <p:nvPr/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ffffff"/>
                </a:solidFill>
                <a:latin typeface="Arial"/>
              </a:rPr>
              <a:t>Noviembre 2011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69"/>
          <p:cNvSpPr/>
          <p:nvPr/>
        </p:nvSpPr>
        <p:spPr>
          <a:xfrm>
            <a:off x="108000" y="624060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7E92-5D62-4133-AEB8-D8DE9B048532}" type="slidenum">
              <a:rPr b="0" lang="es-A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dministración de Riesgos Corporativos: “es un proceso efectuado por la Dirección de una entidad, gerencia y resto de su personal, aplicado en la definición de la estrategia y en toda la entidad, diseñado para identificar eventos potenciales que puedan afectar  a la organización y administrar sus riesgos dentro del riesgo aceptado, proporcionando una seguridad razonable sobre la consecución de los objetivos de la entidad” 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AR" sz="1400" spc="-1" strike="noStrike" u="sng">
                <a:solidFill>
                  <a:srgbClr val="ffffff"/>
                </a:solidFill>
                <a:uFillTx/>
                <a:latin typeface="Arial"/>
              </a:rPr>
              <a:t>Fuente: COSO enterprise risk management – 2004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Gobierno Corporativo: “Es un sistema por medio del cual las Compañías son conducidas de manera tal de garantizar la salvaguarda de los intereses de los propietarios y accionista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emisas: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4400" algn="just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Hacer lo correcto para todos los grupos de interé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4400" algn="just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Involucrar a toda la Organizació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1042920" y="115920"/>
            <a:ext cx="65534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Introducción – Conceptos básic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69"/>
          <p:cNvSpPr/>
          <p:nvPr/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ffffff"/>
                </a:solidFill>
                <a:latin typeface="Arial"/>
              </a:rPr>
              <a:t>Noviembre 2011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9"/>
          <p:cNvSpPr/>
          <p:nvPr/>
        </p:nvSpPr>
        <p:spPr>
          <a:xfrm>
            <a:off x="108000" y="624060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3455-2C07-4AEF-A545-8B899E9CD8BF}" type="slidenum">
              <a:rPr b="0" lang="es-A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42920" y="115920"/>
            <a:ext cx="65534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Introducción – Roles y Responsabilida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69"/>
          <p:cNvSpPr/>
          <p:nvPr/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ffffff"/>
                </a:solidFill>
                <a:latin typeface="Arial"/>
              </a:rPr>
              <a:t>Noviembre 2011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9"/>
          <p:cNvSpPr/>
          <p:nvPr/>
        </p:nvSpPr>
        <p:spPr>
          <a:xfrm>
            <a:off x="108000" y="624060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95280" y="1413000"/>
            <a:ext cx="82090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irector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efinición sobre aceptación y manejo de riesg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Polític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Estructura y recurso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Actualización periódica de la estrateg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Comunicación adecuada a toda la organizació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39640" y="4076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mité de Auditorí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Fijar el foc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munica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onitor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CAF5-060C-447A-ACDE-77E51C535309}" type="slidenum">
              <a:rPr b="0" lang="es-A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95280" y="1197000"/>
            <a:ext cx="828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1042920" y="115920"/>
            <a:ext cx="65534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Introducción – Roles y Responsabilida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69"/>
          <p:cNvSpPr/>
          <p:nvPr/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ffffff"/>
                </a:solidFill>
                <a:latin typeface="Arial"/>
              </a:rPr>
              <a:t>Noviembre 2011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69"/>
          <p:cNvSpPr/>
          <p:nvPr/>
        </p:nvSpPr>
        <p:spPr>
          <a:xfrm>
            <a:off x="108000" y="624060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95280" y="1413000"/>
            <a:ext cx="820908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Gerenci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jecutar según políticas y procedimientos definid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Aplicación de planificación definid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Monitoreo de la estructura y recurso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Capacitació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Comunicación adecuad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539640" y="4076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826920" y="3860640"/>
            <a:ext cx="47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nsiderar  riesg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Reputacio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Legal y Normativ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1CE0-01D2-4428-B100-5EE1F1787479}" type="slidenum">
              <a:rPr b="0" lang="es-A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95280" y="1197000"/>
            <a:ext cx="828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1042920" y="115920"/>
            <a:ext cx="65534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Introducción – Roles y Responsabilida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69"/>
          <p:cNvSpPr/>
          <p:nvPr/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ffffff"/>
                </a:solidFill>
                <a:latin typeface="Arial"/>
              </a:rPr>
              <a:t>Noviembre 2011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69"/>
          <p:cNvSpPr/>
          <p:nvPr/>
        </p:nvSpPr>
        <p:spPr>
          <a:xfrm>
            <a:off x="108000" y="624060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95280" y="1413000"/>
            <a:ext cx="8209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539640" y="4076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95280" y="1643040"/>
            <a:ext cx="82296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uditoría Inter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395280" y="1268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Rol facilitad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Identificación y evaluación de riesg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Entrenamiento a la gerencia sobre el concepto de respuesta a los riesg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Coordinación con otras áre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Revisión del manejo de riesgos definidos y nivel acepta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Brinda aseguramiento sobre proceso de gestión de riesg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8070-80C7-48B3-A92E-91CBE337E5E1}" type="slidenum">
              <a:rPr b="0" lang="es-A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ffffff"/>
                </a:solidFill>
                <a:latin typeface="Arial"/>
              </a:rPr>
              <a:t>Noviembre 2011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9"/>
          <p:cNvSpPr/>
          <p:nvPr/>
        </p:nvSpPr>
        <p:spPr>
          <a:xfrm>
            <a:off x="108000" y="624060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29"/>
          <p:cNvGrpSpPr/>
          <p:nvPr/>
        </p:nvGrpSpPr>
        <p:grpSpPr>
          <a:xfrm>
            <a:off x="250920" y="522360"/>
            <a:ext cx="8715240" cy="6002280"/>
            <a:chOff x="250920" y="522360"/>
            <a:chExt cx="8715240" cy="6002280"/>
          </a:xfrm>
        </p:grpSpPr>
        <p:sp>
          <p:nvSpPr>
            <p:cNvPr id="263" name="TextBox 21"/>
            <p:cNvSpPr/>
            <p:nvPr/>
          </p:nvSpPr>
          <p:spPr>
            <a:xfrm>
              <a:off x="4859280" y="3835440"/>
              <a:ext cx="4105080" cy="19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ermite conocer principios básicos de la gestión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264960" indent="-176040">
                <a:buClr>
                  <a:srgbClr val="2592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llega quien está capacitado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264960" indent="-176040">
                <a:buClr>
                  <a:srgbClr val="2592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se mantiene la capacitación en un entorno cada vez más complejo de negocios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264960" indent="-176040">
                <a:buClr>
                  <a:srgbClr val="2592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Quienes son designados pueden cumplir sus funciones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4" name="Group 28"/>
            <p:cNvGrpSpPr/>
            <p:nvPr/>
          </p:nvGrpSpPr>
          <p:grpSpPr>
            <a:xfrm>
              <a:off x="250920" y="522360"/>
              <a:ext cx="8715240" cy="6002280"/>
              <a:chOff x="250920" y="522360"/>
              <a:chExt cx="8715240" cy="6002280"/>
            </a:xfrm>
          </p:grpSpPr>
          <p:sp>
            <p:nvSpPr>
              <p:cNvPr id="265" name="Rectangle 6"/>
              <p:cNvSpPr/>
              <p:nvPr/>
            </p:nvSpPr>
            <p:spPr>
              <a:xfrm>
                <a:off x="266760" y="834840"/>
                <a:ext cx="4535280" cy="865080"/>
              </a:xfrm>
              <a:prstGeom prst="rect">
                <a:avLst/>
              </a:prstGeom>
              <a:solidFill>
                <a:srgbClr val="00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-Transparentar la relación entre la emisora, el grupo económico que encabeza y/o integra y sus partes relacionadas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4800600" y="834840"/>
                <a:ext cx="4164120" cy="865080"/>
              </a:xfrm>
              <a:prstGeom prst="rect">
                <a:avLst/>
              </a:prstGeom>
              <a:solidFill>
                <a:srgbClr val="00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nformación clara y completa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266760" y="1700280"/>
                <a:ext cx="453528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88920" indent="871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TextBox 11"/>
              <p:cNvSpPr/>
              <p:nvPr/>
            </p:nvSpPr>
            <p:spPr>
              <a:xfrm>
                <a:off x="311040" y="1744560"/>
                <a:ext cx="4535280" cy="12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8920" indent="87120">
                  <a:buClr>
                    <a:srgbClr val="2592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Divulgación de Políticas</a:t>
                </a:r>
                <a:endParaRPr b="1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88920" indent="87120">
                  <a:buClr>
                    <a:srgbClr val="2592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Prevención de conflictos de interés</a:t>
                </a:r>
                <a:endParaRPr b="1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88920" indent="87120">
                  <a:buClr>
                    <a:srgbClr val="2592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Prevenir uso indebido de información       privilegiada</a:t>
                </a:r>
                <a:endParaRPr b="1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88920" indent="8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14"/>
              <p:cNvSpPr/>
              <p:nvPr/>
            </p:nvSpPr>
            <p:spPr>
              <a:xfrm>
                <a:off x="266760" y="2851200"/>
                <a:ext cx="4535280" cy="865080"/>
              </a:xfrm>
              <a:prstGeom prst="rect">
                <a:avLst/>
              </a:prstGeom>
              <a:solidFill>
                <a:srgbClr val="00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I-Sentar las bases para una sólida Administración y Supervisión de la Emisora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15"/>
              <p:cNvSpPr/>
              <p:nvPr/>
            </p:nvSpPr>
            <p:spPr>
              <a:xfrm>
                <a:off x="268200" y="3730680"/>
                <a:ext cx="4535280" cy="279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88920" indent="871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TextBox 16"/>
              <p:cNvSpPr/>
              <p:nvPr/>
            </p:nvSpPr>
            <p:spPr>
              <a:xfrm>
                <a:off x="250920" y="3805200"/>
                <a:ext cx="4537080" cy="258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8920" indent="87120">
                  <a:buClr>
                    <a:srgbClr val="2592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Organo de Administración </a:t>
                </a:r>
                <a:endParaRPr b="1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88920" indent="871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         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upervisa   - Fija orientación estratégica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88920" indent="87120">
                  <a:buClr>
                    <a:srgbClr val="2592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Control de la Gestión</a:t>
                </a:r>
                <a:endParaRPr b="1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88920" indent="87120">
                  <a:buClr>
                    <a:srgbClr val="2592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Proceso de  evaluación de desempeño</a:t>
                </a:r>
                <a:endParaRPr b="1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88920" indent="87120">
                  <a:buClr>
                    <a:srgbClr val="2592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Directores independientes en proporción significativa</a:t>
                </a:r>
                <a:endParaRPr b="1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88920" indent="87120">
                  <a:buClr>
                    <a:srgbClr val="2592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Procedimientos para seleccionar y proponer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Directores – Gerentes)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88920" indent="87120">
                  <a:buClr>
                    <a:srgbClr val="2592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Directores y Síndicos en distintas empresas</a:t>
                </a:r>
                <a:endParaRPr b="1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88920" indent="87120">
                  <a:buClr>
                    <a:srgbClr val="2592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Capacitación de Directores y Gerentes</a:t>
                </a:r>
                <a:endParaRPr b="1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88920" indent="8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17"/>
              <p:cNvSpPr/>
              <p:nvPr/>
            </p:nvSpPr>
            <p:spPr>
              <a:xfrm>
                <a:off x="4816440" y="1700280"/>
                <a:ext cx="414792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88920" indent="871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Box 18"/>
              <p:cNvSpPr/>
              <p:nvPr/>
            </p:nvSpPr>
            <p:spPr>
              <a:xfrm>
                <a:off x="4859280" y="1892160"/>
                <a:ext cx="410508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8920" indent="87120">
                  <a:buClr>
                    <a:srgbClr val="2592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500" spc="-1" strike="noStrike">
                    <a:solidFill>
                      <a:srgbClr val="ffffff"/>
                    </a:solidFill>
                    <a:latin typeface="Arial"/>
                  </a:rPr>
                  <a:t>Pone en pie de igualdad a todos los  grupos de interés</a:t>
                </a:r>
                <a:endParaRPr b="1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88920" indent="8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19"/>
              <p:cNvSpPr/>
              <p:nvPr/>
            </p:nvSpPr>
            <p:spPr>
              <a:xfrm>
                <a:off x="4802400" y="2851200"/>
                <a:ext cx="4163760" cy="865080"/>
              </a:xfrm>
              <a:prstGeom prst="rect">
                <a:avLst/>
              </a:prstGeom>
              <a:solidFill>
                <a:srgbClr val="00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paración de Funciones y control por oposición de intereses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20"/>
              <p:cNvSpPr/>
              <p:nvPr/>
            </p:nvSpPr>
            <p:spPr>
              <a:xfrm>
                <a:off x="4816440" y="3730680"/>
                <a:ext cx="4147920" cy="279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88920" indent="871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TextBox 24"/>
              <p:cNvSpPr/>
              <p:nvPr/>
            </p:nvSpPr>
            <p:spPr>
              <a:xfrm>
                <a:off x="539640" y="522360"/>
                <a:ext cx="38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RINCIPIOS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TextBox 25"/>
              <p:cNvSpPr/>
              <p:nvPr/>
            </p:nvSpPr>
            <p:spPr>
              <a:xfrm>
                <a:off x="4932360" y="522360"/>
                <a:ext cx="38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BENEFICIOS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24"/>
              <p:cNvSpPr/>
              <p:nvPr/>
            </p:nvSpPr>
            <p:spPr>
              <a:xfrm>
                <a:off x="250920" y="836640"/>
                <a:ext cx="4608360" cy="5616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25"/>
              <p:cNvSpPr/>
              <p:nvPr/>
            </p:nvSpPr>
            <p:spPr>
              <a:xfrm>
                <a:off x="4859280" y="836640"/>
                <a:ext cx="4105080" cy="5616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Rectangle 9"/>
          <p:cNvSpPr/>
          <p:nvPr/>
        </p:nvSpPr>
        <p:spPr>
          <a:xfrm>
            <a:off x="-181080" y="-303120"/>
            <a:ext cx="65534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Código de Gobierno Corporativ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B476-A750-4EA0-B741-FFCF0FB668E2}" type="slidenum">
              <a:rPr b="0" lang="es-A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69"/>
          <p:cNvSpPr/>
          <p:nvPr/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ffffff"/>
                </a:solidFill>
                <a:latin typeface="Arial"/>
              </a:rPr>
              <a:t>Noviembre 2011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108000" y="624060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Group 28"/>
          <p:cNvGrpSpPr/>
          <p:nvPr/>
        </p:nvGrpSpPr>
        <p:grpSpPr>
          <a:xfrm>
            <a:off x="250920" y="522360"/>
            <a:ext cx="8715240" cy="6002280"/>
            <a:chOff x="250920" y="522360"/>
            <a:chExt cx="8715240" cy="6002280"/>
          </a:xfrm>
        </p:grpSpPr>
        <p:sp>
          <p:nvSpPr>
            <p:cNvPr id="285" name="Rectangle 6"/>
            <p:cNvSpPr/>
            <p:nvPr/>
          </p:nvSpPr>
          <p:spPr>
            <a:xfrm>
              <a:off x="266760" y="836640"/>
              <a:ext cx="4535280" cy="86508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II-Avalar una efectiva política de identificación, medición, administración y divulgación del riesgo empresari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4800600" y="836640"/>
              <a:ext cx="4164120" cy="86508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strategia de negocios monitoreada de acuerdo a riesgos relacionado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0"/>
            <p:cNvSpPr/>
            <p:nvPr/>
          </p:nvSpPr>
          <p:spPr>
            <a:xfrm>
              <a:off x="266760" y="1701720"/>
              <a:ext cx="4535280" cy="11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8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Box 11"/>
            <p:cNvSpPr/>
            <p:nvPr/>
          </p:nvSpPr>
          <p:spPr>
            <a:xfrm>
              <a:off x="311040" y="1792080"/>
              <a:ext cx="4535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8712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Gestión integral del riesgo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88920" indent="8712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Monitorear adecuadamente implementación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88920" indent="8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4"/>
            <p:cNvSpPr/>
            <p:nvPr/>
          </p:nvSpPr>
          <p:spPr>
            <a:xfrm>
              <a:off x="266760" y="2851200"/>
              <a:ext cx="4535280" cy="86508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V-Salvaguardar la integridad de la Información financiera con auditorías independiente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268200" y="3730680"/>
              <a:ext cx="4535280" cy="27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8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Box 16"/>
            <p:cNvSpPr/>
            <p:nvPr/>
          </p:nvSpPr>
          <p:spPr>
            <a:xfrm>
              <a:off x="250920" y="3805200"/>
              <a:ext cx="4537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8712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Garantizar independencia y transparencia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88920" indent="8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mité de Auditoría   -  Auditoría Extern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88920" indent="8712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7"/>
            <p:cNvSpPr/>
            <p:nvPr/>
          </p:nvSpPr>
          <p:spPr>
            <a:xfrm>
              <a:off x="4816440" y="1701720"/>
              <a:ext cx="4147920" cy="11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8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Box 18"/>
            <p:cNvSpPr/>
            <p:nvPr/>
          </p:nvSpPr>
          <p:spPr>
            <a:xfrm>
              <a:off x="4859280" y="1773360"/>
              <a:ext cx="410508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8712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Visión global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88920" indent="8712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Flexibilidad ante cambios 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88920" indent="8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Aumento – disminución de riesgos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88920" indent="8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19"/>
            <p:cNvSpPr/>
            <p:nvPr/>
          </p:nvSpPr>
          <p:spPr>
            <a:xfrm>
              <a:off x="4802400" y="2851200"/>
              <a:ext cx="4163760" cy="86508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rol por oposición e independencia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20"/>
            <p:cNvSpPr/>
            <p:nvPr/>
          </p:nvSpPr>
          <p:spPr>
            <a:xfrm>
              <a:off x="4816440" y="3730680"/>
              <a:ext cx="4147920" cy="27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8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Box 21"/>
            <p:cNvSpPr/>
            <p:nvPr/>
          </p:nvSpPr>
          <p:spPr>
            <a:xfrm>
              <a:off x="4859280" y="3792600"/>
              <a:ext cx="410508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No contar con limitaciones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nfoque objetivo de control 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Box 24"/>
            <p:cNvSpPr/>
            <p:nvPr/>
          </p:nvSpPr>
          <p:spPr>
            <a:xfrm>
              <a:off x="539640" y="52236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NCIPIO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Box 25"/>
            <p:cNvSpPr/>
            <p:nvPr/>
          </p:nvSpPr>
          <p:spPr>
            <a:xfrm>
              <a:off x="4932360" y="52236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ENEFICIO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>
              <a:off x="250920" y="4508640"/>
              <a:ext cx="4681440" cy="64764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-Respetar derechos de los accionista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Box 27"/>
            <p:cNvSpPr/>
            <p:nvPr/>
          </p:nvSpPr>
          <p:spPr>
            <a:xfrm>
              <a:off x="309600" y="5227920"/>
              <a:ext cx="453528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8712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Acceso a la información 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88920" indent="8712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mueve participación activa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88920" indent="8712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incipio de igualdad entre acción y voto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88920" indent="8712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olítica de dividendos transparente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88920" indent="8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30"/>
            <p:cNvSpPr/>
            <p:nvPr/>
          </p:nvSpPr>
          <p:spPr>
            <a:xfrm>
              <a:off x="4802400" y="4508640"/>
              <a:ext cx="4163760" cy="64764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siciona accionistas minoritario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Box 31"/>
            <p:cNvSpPr/>
            <p:nvPr/>
          </p:nvSpPr>
          <p:spPr>
            <a:xfrm>
              <a:off x="4859280" y="5227920"/>
              <a:ext cx="410508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Atrae inversores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Facilita acceso a la información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24"/>
            <p:cNvSpPr/>
            <p:nvPr/>
          </p:nvSpPr>
          <p:spPr>
            <a:xfrm>
              <a:off x="250920" y="836640"/>
              <a:ext cx="4608360" cy="56149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25"/>
            <p:cNvSpPr/>
            <p:nvPr/>
          </p:nvSpPr>
          <p:spPr>
            <a:xfrm>
              <a:off x="4859280" y="836640"/>
              <a:ext cx="4105080" cy="56149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Rectangle 9"/>
          <p:cNvSpPr/>
          <p:nvPr/>
        </p:nvSpPr>
        <p:spPr>
          <a:xfrm>
            <a:off x="-181080" y="-303120"/>
            <a:ext cx="65534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Código de Gobierno Corporativ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D36F-83F2-488D-AF56-7B9B6012E776}" type="slidenum">
              <a:rPr b="0" lang="es-A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69"/>
          <p:cNvSpPr/>
          <p:nvPr/>
        </p:nvSpPr>
        <p:spPr>
          <a:xfrm>
            <a:off x="2771640" y="624852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ffffff"/>
                </a:solidFill>
                <a:latin typeface="Arial"/>
              </a:rPr>
              <a:t>Noviembre 2011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69"/>
          <p:cNvSpPr/>
          <p:nvPr/>
        </p:nvSpPr>
        <p:spPr>
          <a:xfrm>
            <a:off x="108000" y="624060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33"/>
          <p:cNvGrpSpPr/>
          <p:nvPr/>
        </p:nvGrpSpPr>
        <p:grpSpPr>
          <a:xfrm>
            <a:off x="250920" y="525600"/>
            <a:ext cx="8715240" cy="5940360"/>
            <a:chOff x="250920" y="525600"/>
            <a:chExt cx="8715240" cy="5940360"/>
          </a:xfrm>
        </p:grpSpPr>
        <p:sp>
          <p:nvSpPr>
            <p:cNvPr id="310" name="Rectangle 6"/>
            <p:cNvSpPr/>
            <p:nvPr/>
          </p:nvSpPr>
          <p:spPr>
            <a:xfrm>
              <a:off x="266760" y="839880"/>
              <a:ext cx="4535280" cy="57600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I-Mantener vínculo directo y responsable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 la comunidad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4800600" y="839880"/>
              <a:ext cx="4164120" cy="57600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formación clara y completa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66760" y="1415880"/>
              <a:ext cx="4535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8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TextBox 11"/>
            <p:cNvSpPr/>
            <p:nvPr/>
          </p:nvSpPr>
          <p:spPr>
            <a:xfrm>
              <a:off x="311040" y="1446120"/>
              <a:ext cx="4535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Suministrar a la comunidad información sobre la emisora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Mantener canal de comunicación directo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266760" y="2424240"/>
              <a:ext cx="4535280" cy="50472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II-Remunerar de forma justa y responsabl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68200" y="2928960"/>
              <a:ext cx="453528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8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17"/>
            <p:cNvSpPr/>
            <p:nvPr/>
          </p:nvSpPr>
          <p:spPr>
            <a:xfrm>
              <a:off x="4816440" y="1415880"/>
              <a:ext cx="41479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8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Box 18"/>
            <p:cNvSpPr/>
            <p:nvPr/>
          </p:nvSpPr>
          <p:spPr>
            <a:xfrm>
              <a:off x="4859280" y="1458720"/>
              <a:ext cx="410508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8712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Atrae posibles inversores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88920" indent="8712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tege intereses de los inversores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19"/>
            <p:cNvSpPr/>
            <p:nvPr/>
          </p:nvSpPr>
          <p:spPr>
            <a:xfrm>
              <a:off x="4802400" y="2424240"/>
              <a:ext cx="4163760" cy="50472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ncipio de Equidad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20"/>
            <p:cNvSpPr/>
            <p:nvPr/>
          </p:nvSpPr>
          <p:spPr>
            <a:xfrm>
              <a:off x="4816440" y="2928960"/>
              <a:ext cx="414792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8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Box 21"/>
            <p:cNvSpPr/>
            <p:nvPr/>
          </p:nvSpPr>
          <p:spPr>
            <a:xfrm>
              <a:off x="4859280" y="3079800"/>
              <a:ext cx="410508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tege inversores y Directores / Gerentes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Box 24"/>
            <p:cNvSpPr/>
            <p:nvPr/>
          </p:nvSpPr>
          <p:spPr>
            <a:xfrm>
              <a:off x="538920" y="525600"/>
              <a:ext cx="381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NCIPIO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Box 25"/>
            <p:cNvSpPr/>
            <p:nvPr/>
          </p:nvSpPr>
          <p:spPr>
            <a:xfrm>
              <a:off x="4932000" y="525600"/>
              <a:ext cx="381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ENEFICIO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Box 26"/>
            <p:cNvSpPr/>
            <p:nvPr/>
          </p:nvSpPr>
          <p:spPr>
            <a:xfrm>
              <a:off x="323640" y="3079800"/>
              <a:ext cx="453528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Claras políticas de inversión 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Limitación a existencia de ganancias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Box 28"/>
            <p:cNvSpPr/>
            <p:nvPr/>
          </p:nvSpPr>
          <p:spPr>
            <a:xfrm>
              <a:off x="323640" y="4584600"/>
              <a:ext cx="45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Comportamiento ético de la emisora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Box 30"/>
            <p:cNvSpPr/>
            <p:nvPr/>
          </p:nvSpPr>
          <p:spPr>
            <a:xfrm>
              <a:off x="323640" y="5737320"/>
              <a:ext cx="45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Buen Gobierno desde el Estatuto Social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Box 32"/>
            <p:cNvSpPr/>
            <p:nvPr/>
          </p:nvSpPr>
          <p:spPr>
            <a:xfrm>
              <a:off x="4859280" y="4606920"/>
              <a:ext cx="41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one en acción el marco teórico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Box 34"/>
            <p:cNvSpPr/>
            <p:nvPr/>
          </p:nvSpPr>
          <p:spPr>
            <a:xfrm>
              <a:off x="4859280" y="5672160"/>
              <a:ext cx="41050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statuto como base fundamental de existencia de la Organización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264960" indent="-176040">
                <a:buClr>
                  <a:srgbClr val="2592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Resalta la importancia del marco legal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35"/>
            <p:cNvSpPr/>
            <p:nvPr/>
          </p:nvSpPr>
          <p:spPr>
            <a:xfrm>
              <a:off x="266760" y="4368960"/>
              <a:ext cx="45352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8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266760" y="5605560"/>
              <a:ext cx="453528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8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38"/>
            <p:cNvSpPr/>
            <p:nvPr/>
          </p:nvSpPr>
          <p:spPr>
            <a:xfrm>
              <a:off x="266760" y="3790800"/>
              <a:ext cx="4535280" cy="57780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III-Fomentar Etica empresari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39"/>
            <p:cNvSpPr/>
            <p:nvPr/>
          </p:nvSpPr>
          <p:spPr>
            <a:xfrm>
              <a:off x="4802400" y="3790800"/>
              <a:ext cx="4163760" cy="57780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tege Inversores y Directores / Gerente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40"/>
            <p:cNvSpPr/>
            <p:nvPr/>
          </p:nvSpPr>
          <p:spPr>
            <a:xfrm>
              <a:off x="266760" y="5103720"/>
              <a:ext cx="4535280" cy="50292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X-Profundizar el alcance  del Código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41"/>
            <p:cNvSpPr/>
            <p:nvPr/>
          </p:nvSpPr>
          <p:spPr>
            <a:xfrm>
              <a:off x="4802400" y="5103720"/>
              <a:ext cx="4163760" cy="502920"/>
            </a:xfrm>
            <a:prstGeom prst="rect">
              <a:avLst/>
            </a:prstGeom>
            <a:solidFill>
              <a:srgbClr val="007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co Leg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29"/>
            <p:cNvSpPr/>
            <p:nvPr/>
          </p:nvSpPr>
          <p:spPr>
            <a:xfrm>
              <a:off x="250920" y="839880"/>
              <a:ext cx="4608360" cy="5616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31"/>
            <p:cNvSpPr/>
            <p:nvPr/>
          </p:nvSpPr>
          <p:spPr>
            <a:xfrm>
              <a:off x="4859280" y="839880"/>
              <a:ext cx="4105080" cy="5616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-181080" y="-303120"/>
            <a:ext cx="65534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c0c0"/>
                </a:solidFill>
                <a:latin typeface="Arial"/>
              </a:rPr>
              <a:t>Código de Gobierno Corporativ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7:41:27Z</dcterms:created>
  <dc:creator>liliana.dorsch</dc:creator>
  <dc:description/>
  <dc:language>en-US</dc:language>
  <cp:lastModifiedBy>rbarrionuevo</cp:lastModifiedBy>
  <dcterms:modified xsi:type="dcterms:W3CDTF">2011-12-05T14:16:13Z</dcterms:modified>
  <cp:revision>345</cp:revision>
  <dc:subject/>
  <dc:title>Administración del riesgo de los negocios  y su relación con la función de Auditoría  y del Comité de Auditoría.</dc:title>
</cp:coreProperties>
</file>